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118-E20F-49C4-8A84-1763A47C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6D8-589C-435F-B413-F4D23F11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CD5-CCA1-43FC-BA06-C2366486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15B-400B-4B95-988D-F7B6FFE4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63BF-A627-4793-92AC-A00022A0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C5CC-439E-4F40-9AD4-7D217F35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1F4D-A4C5-483F-AE94-9FAD0B79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F0A7-CE9A-41C3-890C-BBC3DDA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169D-B809-4281-9E3D-4B50C60F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1606-F869-4BC4-A1D1-1B4A038A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C0F2-5243-40BD-A50E-1FCE7E6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10D-29CF-455A-85CB-A71270A9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54E1-59CE-47D8-AF7D-68EB6C1D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D9F3-C663-448A-B9AF-9673F67B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6BB8-EF51-4D77-AD0D-448AE462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FF01-E52E-4943-89DD-78D767AC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8BF8-174D-4786-8ABF-BAD738B7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20E-C55E-432C-B3C5-6BE280C8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1B4-EEB2-47B0-BF9B-56B9FB3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FDE-36E5-4860-BE08-A5703AF5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D96-A9E6-4A2F-BEC5-9FD3DCFA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F99-3BC0-4EC2-9B94-BF6CFC0A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ABD-C4FA-49A3-BA56-E68D474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4B5-4734-448B-9305-9CE66060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469D-D667-4471-B8DD-C485A1035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DAF8-1E9C-4685-A478-E45BEAA52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62160" y="761760"/>
            <a:ext cx="5181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cc99ff"/>
                </a:solidFill>
                <a:latin typeface="Monotype Corsiva"/>
              </a:rPr>
              <a:t>Current situ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Pol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When people litter our streets the rain water makes the litter flow into the gutter and into our storm water drains which flow into our river and pollute i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Ex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Drawing too much water in dry ti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Water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Not protecting and restoring water level flows which affects plants and animal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2143080" y="142920"/>
            <a:ext cx="46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Picture 11" descr="IMG_2088"/>
          <p:cNvPicPr/>
          <p:nvPr/>
        </p:nvPicPr>
        <p:blipFill>
          <a:blip r:embed="rId1"/>
          <a:srcRect l="0" t="0" r="11635" b="11421"/>
          <a:stretch/>
        </p:blipFill>
        <p:spPr>
          <a:xfrm>
            <a:off x="285840" y="1071720"/>
            <a:ext cx="307188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MG_2092.JPG"/>
          <p:cNvPicPr/>
          <p:nvPr/>
        </p:nvPicPr>
        <p:blipFill>
          <a:blip r:embed="rId2"/>
          <a:srcRect l="16406" t="33985" r="57033" b="39062"/>
          <a:stretch/>
        </p:blipFill>
        <p:spPr>
          <a:xfrm>
            <a:off x="285840" y="4214880"/>
            <a:ext cx="3065400" cy="207324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8" descr=""/>
          <p:cNvPicPr/>
          <p:nvPr/>
        </p:nvPicPr>
        <p:blipFill>
          <a:blip r:embed="rId3"/>
          <a:stretch/>
        </p:blipFill>
        <p:spPr>
          <a:xfrm>
            <a:off x="1036800" y="-109440"/>
            <a:ext cx="69735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 Placeholder 3" descr=""/>
          <p:cNvPicPr/>
          <p:nvPr/>
        </p:nvPicPr>
        <p:blipFill>
          <a:blip r:embed="rId1"/>
          <a:stretch/>
        </p:blipFill>
        <p:spPr>
          <a:xfrm>
            <a:off x="4638600" y="1914480"/>
            <a:ext cx="3938760" cy="416232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8" descr=""/>
          <p:cNvPicPr/>
          <p:nvPr/>
        </p:nvPicPr>
        <p:blipFill>
          <a:blip r:embed="rId2"/>
          <a:stretch/>
        </p:blipFill>
        <p:spPr>
          <a:xfrm>
            <a:off x="1122480" y="-55440"/>
            <a:ext cx="6173640" cy="1177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1"/>
          <p:cNvSpPr/>
          <p:nvPr/>
        </p:nvSpPr>
        <p:spPr>
          <a:xfrm>
            <a:off x="4857840" y="1071720"/>
            <a:ext cx="350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ff"/>
                </a:solidFill>
                <a:latin typeface="Monotype Corsiva"/>
              </a:rPr>
              <a:t>Desired Outcome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3" name="ClipArt Placeholder 13" descr="IMG_1885.JPG"/>
          <p:cNvPicPr/>
          <p:nvPr/>
        </p:nvPicPr>
        <p:blipFill>
          <a:blip r:embed="rId3"/>
          <a:stretch/>
        </p:blipFill>
        <p:spPr>
          <a:xfrm>
            <a:off x="0" y="1341360"/>
            <a:ext cx="430992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We can use gross pollutant traps.  It is a net that traps rubbish before it can flow into rivers. There should be no drawing water from the river in dry ti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op people littering our streets by making them pay a penal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Educate people about looking after our riv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Rectangle 8" descr=""/>
          <p:cNvPicPr/>
          <p:nvPr/>
        </p:nvPicPr>
        <p:blipFill>
          <a:blip r:embed="rId1"/>
          <a:stretch/>
        </p:blipFill>
        <p:spPr>
          <a:xfrm>
            <a:off x="1133640" y="66600"/>
            <a:ext cx="6181560" cy="1274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4932360" y="1268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284720" y="1197000"/>
            <a:ext cx="4174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140360" y="1197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Monotype Corsiva"/>
              </a:rPr>
              <a:t>Proposed action and guidelin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2"/>
          <a:stretch/>
        </p:blipFill>
        <p:spPr>
          <a:xfrm>
            <a:off x="785880" y="857160"/>
            <a:ext cx="3071880" cy="311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3"/>
          <a:stretch/>
        </p:blipFill>
        <p:spPr>
          <a:xfrm>
            <a:off x="500040" y="4143240"/>
            <a:ext cx="36068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6:46:34Z</dcterms:created>
  <dc:creator> </dc:creator>
  <dc:description/>
  <dc:language>en-US</dc:language>
  <cp:lastModifiedBy>tm</cp:lastModifiedBy>
  <dcterms:modified xsi:type="dcterms:W3CDTF">2009-04-08T21:53:33Z</dcterms:modified>
  <cp:revision>18</cp:revision>
  <dc:subject/>
  <dc:title>PowerPoint Presentation</dc:title>
</cp:coreProperties>
</file>